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72553"/>
        <c:axId val="67421210"/>
      </c:barChart>
      <c:catAx>
        <c:axId val="196725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21210"/>
        <c:crosses val="autoZero"/>
        <c:auto val="1"/>
        <c:lblAlgn val="ctr"/>
        <c:lblOffset val="100"/>
        <c:noMultiLvlLbl val="0"/>
      </c:catAx>
      <c:valAx>
        <c:axId val="674212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725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A49E-3A3C-4952-8F16-ADE87B10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6998-41F2-493B-9A86-98DCC733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6F8E-B61B-4294-9969-7C28AFF4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9EA6-A8D4-4863-9A19-6E0DB84B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10DE-E216-46F5-A34A-E297BDE5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873C-E1F6-4EB2-A7D2-EB1AB12C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531F-6EB0-40E8-ABB3-3C2D26C8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076D-6A0A-47D0-B6D0-A47068FB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C27E-D23F-419A-9238-F014B0F7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4BC1-8A93-4329-A69B-AD5916FE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3301-47C1-444F-8BCA-E971C740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7368-3CB2-439B-93AD-00F4A04C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80147-42D1-41F5-A685-071054A1BD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