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318911"/>
        <c:axId val="78717012"/>
      </c:barChart>
      <c:catAx>
        <c:axId val="633189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17012"/>
        <c:crosses val="autoZero"/>
        <c:auto val="1"/>
        <c:lblAlgn val="ctr"/>
        <c:lblOffset val="100"/>
        <c:noMultiLvlLbl val="0"/>
      </c:catAx>
      <c:valAx>
        <c:axId val="787170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189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1AC8-BE69-4C8A-955A-90848289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8649-3871-4F22-AA0F-591EBE91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91C8-A90B-4B9B-A9DB-7F4651A9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3179-5E7C-4076-82CA-1FE9CF08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2954-C5C7-47C9-90FD-534B37BE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94A8-BBF1-4018-B859-1BC48C84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74A-2041-4B19-B438-DCF9BBE7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6D99-E5C9-4732-92D3-3AFD9E8A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F722-EFC8-40AB-9A8E-6A5B3F79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345D-6FF1-4D77-BA53-7418480E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FCB6-8AB0-4A45-A9A8-E88097EA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F873-7197-4523-9AC5-071E267B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ADD6F-10CF-4D93-9AAC-93684307E3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