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09044"/>
        <c:axId val="62153586"/>
      </c:barChart>
      <c:catAx>
        <c:axId val="79109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53586"/>
        <c:crosses val="autoZero"/>
        <c:auto val="1"/>
        <c:lblAlgn val="ctr"/>
        <c:lblOffset val="100"/>
        <c:noMultiLvlLbl val="0"/>
      </c:catAx>
      <c:valAx>
        <c:axId val="62153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09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136-2AFB-4DD7-8B6B-73A8B0BA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588-EBA4-4E47-8FD4-1AFF853A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143-B609-44B0-B5B1-6037F6B4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161-633E-4E70-AA45-7C8BD534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F9B-C365-4EC6-B322-014CA4FE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1E7-41F1-48C2-935D-CB3414DF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52D-BB70-4EE3-89B9-CD944202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A2B-C11F-4863-B026-35C3507F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166-B37F-492B-99E9-FE2195C2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35D-D017-443E-AB82-B96DD7C8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2CD-055B-49F2-A2D1-A35B6853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C05-17EE-4ACF-9B02-D85B444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DC5EA-9BA7-4A60-AE9E-82E36A312A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