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0309929"/>
        <c:axId val="10527582"/>
      </c:barChart>
      <c:catAx>
        <c:axId val="4030992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527582"/>
        <c:crosses val="autoZero"/>
        <c:auto val="1"/>
        <c:lblAlgn val="ctr"/>
        <c:lblOffset val="100"/>
        <c:noMultiLvlLbl val="0"/>
      </c:catAx>
      <c:valAx>
        <c:axId val="1052758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30992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2B9C-C776-4D6A-97D7-5C6195CB4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CAC6-3BB9-4ACF-B75B-2298ED509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17FC-94BC-45B8-BEB9-35ED6B6A5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4CAE-CF14-4225-A630-45D1DF671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0CCB-1907-4353-8A27-349C98FAD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9429-D4EC-4D1A-83C6-7121141FB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5DB1-B7BA-4002-ADB2-7079BCE10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6F19-905C-4BD5-B65F-444CC2076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B1B7-B620-43F6-8031-214BCA31C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807D-359C-4298-A53B-4FDA2102D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6C94-C0BC-4B4A-A8E6-054275E55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5252-280E-47E1-9BDF-3E2320A8C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AAD820-9F09-4F40-9F6D-741CEE5832D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