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258431"/>
        <c:axId val="60301513"/>
      </c:barChart>
      <c:catAx>
        <c:axId val="70258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01513"/>
        <c:crosses val="autoZero"/>
        <c:auto val="1"/>
        <c:lblAlgn val="ctr"/>
        <c:lblOffset val="100"/>
        <c:noMultiLvlLbl val="0"/>
      </c:catAx>
      <c:valAx>
        <c:axId val="60301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258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092B-DFD0-43C8-AAEB-A7B6C6BA6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6D2E-6785-4DF5-B71D-302F9222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35D-0CA3-4112-8F4F-2B41227A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BDCE-EB5B-4D3D-AD57-889C142E0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2726-4975-4BE4-A778-E147BC1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8A40-ECCF-4A67-9FE9-BF930216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8F54-B1ED-4850-9ADF-58A4AA2E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CECC-BF47-4719-8F41-0AD1371A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797B-68A0-4CA0-B9AE-A05566BE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E918-1F34-4548-90F5-15F9AA27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7C0A-B324-4DFE-84F1-0C142725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BCCB-3803-4B55-9C33-7E0CA010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F84A4-4FD3-43EA-8D28-96BF38FAD4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