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88046"/>
        <c:axId val="57283154"/>
      </c:barChart>
      <c:catAx>
        <c:axId val="20488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83154"/>
        <c:crosses val="autoZero"/>
        <c:auto val="1"/>
        <c:lblAlgn val="ctr"/>
        <c:lblOffset val="100"/>
        <c:noMultiLvlLbl val="0"/>
      </c:catAx>
      <c:valAx>
        <c:axId val="57283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88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782-7F51-4E2E-BA30-F39A9F5F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05C-0B74-495F-87E7-93B76A44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630-C005-4963-8C56-ED14E688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7A2-FD32-4E31-AE07-521ED304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4A3-BC1D-4762-A450-3C924AF3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4AD-D7ED-44B9-9AE9-3EBC7553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C2E-0171-4AE5-8B44-17EDC38D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4F1-4485-4F3F-BD3C-3306FBFE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720-996C-4210-9DE5-94373AC6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C65-18DA-4B4E-AE3F-A4C583CA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2A3-E481-4D27-8E82-B6C65E30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A7B-88B5-45F1-A65D-71058A7D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88364-E7BC-4223-AFC1-FB93E10874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