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78262"/>
        <c:axId val="82344245"/>
      </c:barChart>
      <c:catAx>
        <c:axId val="81078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44245"/>
        <c:crosses val="autoZero"/>
        <c:auto val="1"/>
        <c:lblAlgn val="ctr"/>
        <c:lblOffset val="100"/>
        <c:noMultiLvlLbl val="0"/>
      </c:catAx>
      <c:valAx>
        <c:axId val="82344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8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EAC-F132-438D-834F-B5C85E4D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5D6-8474-4D63-AAEB-BE163AB4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E01-251F-4D82-933D-084F23F1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EE3-823B-4851-AF07-14553160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1FF-A0CE-4B74-B274-7774EBE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F00-A035-41D4-BE8B-00A8ED8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484-962F-4A5B-B074-AE03637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5AA-7D33-4B40-9E51-5F5635A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FB0-225C-4A55-B2F8-D09B5A02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47D-103C-4BDF-9780-98D47BB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379-A685-4EA6-BB23-48BDE3A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7EA-6201-478B-9F5D-D322719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F4880-863A-4E28-8C59-DA10D3C9C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