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13791"/>
        <c:axId val="41400051"/>
      </c:barChart>
      <c:catAx>
        <c:axId val="98213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0051"/>
        <c:crosses val="autoZero"/>
        <c:auto val="1"/>
        <c:lblAlgn val="ctr"/>
        <c:lblOffset val="100"/>
        <c:noMultiLvlLbl val="0"/>
      </c:catAx>
      <c:valAx>
        <c:axId val="4140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3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64B-35D9-4C5F-965D-AB618401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B57-2301-4B5D-8E08-321F015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BB3-86C9-4FC8-B2ED-FC24C464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E33-5665-4F8C-ACA3-D365714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FC2-BD9A-485C-9746-77FED4DF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BB1-FF8D-4F03-BEDF-7499A05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590-3A71-4E5E-8315-A4628CD7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D4C-9E8D-4228-BE62-A3354B1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B24-0DC9-4BA2-8273-5BA19CB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9A3-DED9-44B5-A927-2667D84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7B3-2D88-4C97-9772-10CD191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153-ECF7-4456-B57C-617FC58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2D08B-D9D0-4AD5-8CC8-23A3A9BCA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