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49018"/>
        <c:axId val="63468407"/>
      </c:barChart>
      <c:catAx>
        <c:axId val="475490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68407"/>
        <c:crosses val="autoZero"/>
        <c:auto val="1"/>
        <c:lblAlgn val="ctr"/>
        <c:lblOffset val="100"/>
        <c:noMultiLvlLbl val="0"/>
      </c:catAx>
      <c:valAx>
        <c:axId val="63468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490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ACC-FD16-44AA-AD04-9A0EAA7C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09A-331E-4D9C-B4C3-2955D0EE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0CF-1CE8-40F9-BC6D-EA9261D1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550-EAA9-4C61-9071-49A499BB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FD70-90D8-4A27-A084-9347FAB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37B-E228-4C13-AEF6-7E463659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22B-0965-4CF7-AF3B-B4A9349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B29-87AF-492B-AE5A-88F47C6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A2A-6DB5-4F01-8837-AC8A6314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1E6-9BA4-4C98-906B-943CA2CB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25F-3C80-46A9-97B6-41A5D9B4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54B-1712-46C3-A43A-02C1EA60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6D1C2-0532-464E-95E8-62AECE416D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