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26652"/>
        <c:axId val="49400788"/>
      </c:barChart>
      <c:catAx>
        <c:axId val="1162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00788"/>
        <c:crosses val="autoZero"/>
        <c:auto val="1"/>
        <c:lblAlgn val="ctr"/>
        <c:lblOffset val="100"/>
        <c:noMultiLvlLbl val="0"/>
      </c:catAx>
      <c:valAx>
        <c:axId val="49400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E68-313A-4DA3-8921-F24BA115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C4F-7465-4CEF-8859-7B74F4AF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371-26F8-4D71-8152-F5915ED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F94-492A-4ECC-8778-A58D12A8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11C-6BFF-48F5-BEFB-FDEFF278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825-9B19-41CA-A09A-A95DB321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9A4-B87C-43D7-A992-6FAC64D7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152-1208-4E8A-96F2-198330A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A85-66A3-4ACB-9321-CED49713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2CE-D905-4F81-B716-DF78307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50E-9F99-402C-A6AF-DAE8CE9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9A2-AB82-4D4E-83CD-232F2E7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9C8B3-1BCB-40C6-A2EA-D1F69A0F9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