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80386"/>
        <c:axId val="46357588"/>
      </c:barChart>
      <c:catAx>
        <c:axId val="22780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57588"/>
        <c:crosses val="autoZero"/>
        <c:auto val="1"/>
        <c:lblAlgn val="ctr"/>
        <c:lblOffset val="100"/>
        <c:noMultiLvlLbl val="0"/>
      </c:catAx>
      <c:valAx>
        <c:axId val="46357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80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13AC-8BBE-487F-A858-6421A4AF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31A6-BD20-4B91-8B71-E4CD81B9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A7C-A5E1-4447-B0EE-5E3DD3F2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670-5158-4E26-89E3-C7CAD210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690B-7C57-4BE5-9BE9-A27BCF96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E7E-C866-49C7-9608-2D7AF044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D019-284C-40E3-A3BA-6E314116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F476-EFEC-4E57-9954-85EA5AF4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A0A1-46CC-429F-9181-AE5463A5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98C-8BEB-4783-B4B7-2B65DC1F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D9FA-512F-44BA-97B0-FF84D1A7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5FAB-02B8-41A6-AE9A-C44E8982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4B9EC-92D3-4215-9F47-D5112FBCE5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