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318340"/>
        <c:axId val="41902969"/>
      </c:barChart>
      <c:catAx>
        <c:axId val="233183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902969"/>
        <c:crosses val="autoZero"/>
        <c:auto val="1"/>
        <c:lblAlgn val="ctr"/>
        <c:lblOffset val="100"/>
        <c:noMultiLvlLbl val="0"/>
      </c:catAx>
      <c:valAx>
        <c:axId val="419029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3183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F952-64E0-4B03-9E54-7BC60A70B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B0EF-8701-4DAA-B13C-51983187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A8DF-28A5-44C9-9113-E0ED4E191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A75B-61AB-42B7-A70B-83FDE525E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CE2E-D49E-4124-A735-4F3F3611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D7B4-2F37-49FC-BFC7-85D0A9C3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E8AE-AF73-4DDC-90A8-75D1A545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91BC-D46D-4CBF-B58A-17693188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F739-CBDC-4F5C-A654-03384650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E0C6-1A4B-4645-875F-40E93C41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0CCA-8A12-4160-ACB8-8609DFE9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C41D-9AD7-4569-998A-A250E596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25CE3-EE28-4068-9326-95EB9DC0B6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