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05442"/>
        <c:axId val="60325398"/>
      </c:barChart>
      <c:catAx>
        <c:axId val="57405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25398"/>
        <c:crosses val="autoZero"/>
        <c:auto val="1"/>
        <c:lblAlgn val="ctr"/>
        <c:lblOffset val="100"/>
        <c:noMultiLvlLbl val="0"/>
      </c:catAx>
      <c:valAx>
        <c:axId val="60325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05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0C3-A39A-4D02-A269-C59F25D1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093-4501-4A53-B043-B1D1E4E1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4E6-2143-43C4-AB0A-7035B241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402-E1E4-4187-83FD-CA1D7850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83D-C9BC-431C-AE92-2D86CB60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285-DCA1-4574-9014-0F5A6A9A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882-21E9-4F96-B326-D755D27C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010-27A3-4511-A371-00D0BF62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057-50AA-4AE4-8662-795AB73F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05D-ED7E-4D3B-8D88-B5C5595D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DCF-5A72-454B-96FC-E066099A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9F1-2719-428A-B97E-C63C250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12071-D2C6-476B-BACA-F4BBB332F7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