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73586"/>
        <c:axId val="14176090"/>
      </c:barChart>
      <c:catAx>
        <c:axId val="47373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76090"/>
        <c:crosses val="autoZero"/>
        <c:auto val="1"/>
        <c:lblAlgn val="ctr"/>
        <c:lblOffset val="100"/>
        <c:noMultiLvlLbl val="0"/>
      </c:catAx>
      <c:valAx>
        <c:axId val="14176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73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975-D145-4FFB-8BC2-2599582F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D4B-DB55-49F6-A309-CE712B7C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2FB-3D11-4700-995A-DBC5D9DB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A99-DE1B-4B42-8E27-6E5F5272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9FA-3BA3-49FB-BFD0-9A9ED18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183-309B-4C9B-B2D0-916694F0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9A9-9061-42F2-B2EC-DDDF5C4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252-4818-4A4E-9716-1469566F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842-8EEF-4E27-ABFC-940720AF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51E-AC2C-4346-B91D-0F43042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A87-7983-4180-97F5-349A1B3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78F-1F79-45C6-9530-B3F8C1B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9757D-279D-492F-B163-82FF23E2F4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