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29038"/>
        <c:axId val="1087835"/>
      </c:barChart>
      <c:catAx>
        <c:axId val="80529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7835"/>
        <c:crosses val="autoZero"/>
        <c:auto val="1"/>
        <c:lblAlgn val="ctr"/>
        <c:lblOffset val="100"/>
        <c:noMultiLvlLbl val="0"/>
      </c:catAx>
      <c:valAx>
        <c:axId val="1087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29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FE1-476C-4D3D-A855-997E09C4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CC2-A50D-4AEC-96E7-BABF3C8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80B-7CA8-42F7-B4E2-A531B807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4A7-98EF-45B7-88DD-A572B2C6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EAE-C9E1-4959-B780-FB445AC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679-29E0-47E7-8B18-0F5829A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783-9596-4F3A-A414-177F25A0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802-C789-45CC-90F3-6FE41EE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1DD-DE4C-4478-98CB-752407A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268-0F11-4DDA-9C79-EEC5BFE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A42-4602-400B-89DE-D08FC3E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5F3-059F-4739-8E73-D3FAF98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59FE1-24C9-4428-8256-440198CD2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