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57790"/>
        <c:axId val="49787308"/>
      </c:barChart>
      <c:catAx>
        <c:axId val="81557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87308"/>
        <c:crosses val="autoZero"/>
        <c:auto val="1"/>
        <c:lblAlgn val="ctr"/>
        <c:lblOffset val="100"/>
        <c:noMultiLvlLbl val="0"/>
      </c:catAx>
      <c:valAx>
        <c:axId val="49787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57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0BC-75BE-4D34-A823-570FE981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1EE-AABD-4998-A687-3D3913F2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408-082D-4667-ADB5-0A8BD6ED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E86-3EA2-40C0-A2B9-262034FD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081-64B0-4905-A210-4B2C1E59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F56-6F1C-4594-AE41-872684F7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3D7-0F68-40F9-A419-FA6CB5A5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53DD-65AA-4969-9860-2018EAD9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BF3-6047-4C6B-B139-8BAC9FD6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EC0-C2AB-4F18-A241-D269FD6B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077-3EAD-4778-978F-72A13D7D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D50-F720-45B8-BC6A-63AA1872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320F6-974E-4074-84D1-7E172EA90F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