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248724"/>
        <c:axId val="86861547"/>
      </c:barChart>
      <c:catAx>
        <c:axId val="59248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61547"/>
        <c:crosses val="autoZero"/>
        <c:auto val="1"/>
        <c:lblAlgn val="ctr"/>
        <c:lblOffset val="100"/>
        <c:noMultiLvlLbl val="0"/>
      </c:catAx>
      <c:valAx>
        <c:axId val="868615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248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520-C6BB-486D-8600-8FACA29C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CFC2-2ED9-4AB5-AE89-947B5ACB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37E-A8A5-4E1F-8E02-6B7592F7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A0B-F41C-4140-8C63-4E1A023D5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0B5A-4C67-403F-9E36-EEB8B569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595-6D9B-4D3D-8160-F12B84DB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DF9-29FF-40C6-B260-D78606DC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EE1D-2647-4E77-AFA6-731A40CF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3F6-9B41-40E7-8A77-1CE098C9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739D-6999-40FE-A825-448C5ECF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F07C-2DD6-4D0E-8A78-410D607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937-A527-4A87-8979-E550161D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F5CB2-002A-42CF-B8AD-C763A3ABC0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