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441829"/>
        <c:axId val="19980879"/>
      </c:barChart>
      <c:catAx>
        <c:axId val="784418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80879"/>
        <c:crosses val="autoZero"/>
        <c:auto val="1"/>
        <c:lblAlgn val="ctr"/>
        <c:lblOffset val="100"/>
        <c:noMultiLvlLbl val="0"/>
      </c:catAx>
      <c:valAx>
        <c:axId val="199808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418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1E15-CA64-48EC-9E40-0C0A985F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CCB9-C4E0-4A30-9F62-15FF271E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352B-C681-404F-B805-0058EDF6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5EA5-0ABB-4CEF-9C73-FFDEC833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0E2D-2C98-49D9-8509-C484268A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9EBF-48D4-40A7-AABB-518BD491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290B-E929-4314-A319-AB3265FB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FCBB-B8EF-4D7E-BB49-23FDAA79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E25E-C5C7-42FD-9488-E41837EF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7EE0-5916-40DA-AA06-08A2607E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482B-1B20-4FD7-B248-44E0ED34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E07F-3971-43C0-AB88-F77A5717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F91BB-D054-4231-9A71-1A75378F5A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