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23647"/>
        <c:axId val="27613581"/>
      </c:barChart>
      <c:catAx>
        <c:axId val="96523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13581"/>
        <c:crosses val="autoZero"/>
        <c:auto val="1"/>
        <c:lblAlgn val="ctr"/>
        <c:lblOffset val="100"/>
        <c:noMultiLvlLbl val="0"/>
      </c:catAx>
      <c:valAx>
        <c:axId val="27613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23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B2F-F1AE-4800-A5C4-3A7A8B70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63A-BA11-489B-846D-CC91FC8A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933-2A8B-4866-824D-ED3CE06A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E50-EE97-4BDC-966E-E7E75BCC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17B-A75E-4133-AA65-358FF988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6110-D71A-4B01-A75D-3AB2EFDC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903-C8E0-4FF1-B061-F812B286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F32-2F67-4947-9653-E74BDAD3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A196-9C8A-461F-9EAB-4ECB4EDE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028-2137-4A03-8419-9DFB6F58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2D3-B6C6-480B-AE24-29F4DBBF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EC1-DE0C-465C-9563-6EECC961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C2A77-FB04-4AAD-BCC1-01C34C5759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