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03734"/>
        <c:axId val="67543295"/>
      </c:barChart>
      <c:catAx>
        <c:axId val="65003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43295"/>
        <c:crosses val="autoZero"/>
        <c:auto val="1"/>
        <c:lblAlgn val="ctr"/>
        <c:lblOffset val="100"/>
        <c:noMultiLvlLbl val="0"/>
      </c:catAx>
      <c:valAx>
        <c:axId val="67543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03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729-F87F-4738-B1D6-F7D2F402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256A-D815-41F4-BE2F-F12556CE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96B4-8A77-4C1D-B6DF-0C3ECF8D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B79-57F6-4252-855B-616A0C23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9CF-8A97-4A49-92AC-A3E7CD20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D05-C315-499B-9B92-F7337615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224-B243-4F5E-A174-EABF6602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2F3-79A8-4721-BD67-920DBD7D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FA2-6077-4E05-B1D4-C8CD330E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884-F483-4058-91C7-4FBD46B5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F88-8BA6-4656-AC32-DC399C69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011-E236-4153-9D6A-4E5887A1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E6313-9FFA-4099-AD5D-0BB5BD8074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