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33346"/>
        <c:axId val="27015757"/>
      </c:barChart>
      <c:catAx>
        <c:axId val="75333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15757"/>
        <c:crosses val="autoZero"/>
        <c:auto val="1"/>
        <c:lblAlgn val="ctr"/>
        <c:lblOffset val="100"/>
        <c:noMultiLvlLbl val="0"/>
      </c:catAx>
      <c:valAx>
        <c:axId val="27015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33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B69-FC6D-481A-928C-6E50E7C6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173-04B6-4AC8-AE0A-84ACD664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B24-A75E-434D-B64F-96710F3F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F27-5D53-43AD-8E25-328EE23E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207-F02E-46A1-B601-CBFB94D2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52B-67E4-4E87-986F-7CCD74BE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4D8-451D-4618-A5C1-3B20C5BC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0CF-63B8-450D-9514-FF21498A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A1C-C31A-48CF-9312-8D8D74BB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6D7-D7CF-4377-9562-06E47561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B99-8ED0-4B5F-B952-D84B74E4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983-FB5C-4A39-B753-82E33BEA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52410-D206-49D6-A8A0-69DD0B2289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