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94561"/>
        <c:axId val="53163734"/>
      </c:barChart>
      <c:catAx>
        <c:axId val="57494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63734"/>
        <c:crosses val="autoZero"/>
        <c:auto val="1"/>
        <c:lblAlgn val="ctr"/>
        <c:lblOffset val="100"/>
        <c:noMultiLvlLbl val="0"/>
      </c:catAx>
      <c:valAx>
        <c:axId val="53163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94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D87-205E-4800-B9AB-D3AC7906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18A-BF2C-4E45-A8D8-3399377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5DE-491F-4E1F-91D0-2D10BC4B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AD8-C4DA-4965-9F07-C89E2663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AC5-E023-4FCD-B871-D04A42DF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D77-952E-4C6B-B544-4CF1480B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0D0-C41A-41E0-BCEF-3F2F1C1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448-68AB-4B52-BD7F-A6BCA552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24D-16E3-4B1A-915A-8247EE3D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B0A-ABC9-4178-9EEA-ADB6064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DFE-F9BC-47A2-93AA-9093C8E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8C8-E719-4A61-99D8-8C8154AD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BB947-1326-4BBA-995E-506FED58EF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