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7685"/>
        <c:axId val="11954195"/>
      </c:barChart>
      <c:catAx>
        <c:axId val="3987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54195"/>
        <c:crosses val="autoZero"/>
        <c:auto val="1"/>
        <c:lblAlgn val="ctr"/>
        <c:lblOffset val="100"/>
        <c:noMultiLvlLbl val="0"/>
      </c:catAx>
      <c:valAx>
        <c:axId val="11954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7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69A-CF25-454E-A78A-C1E232D3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353-8C19-41A2-906D-2CD17BB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0C5-8265-4703-B091-01641221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B56-8F85-4141-883C-996851FB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968-9CBD-4540-AD99-86D9D64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EA7-0F1E-4E73-823A-68ADE641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BC7-69CB-49F7-8666-BB9817B7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BD6-7D9D-4279-8CC5-B2642F4B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637-6317-44B6-AF0C-E29252A3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B4D-18F9-493D-B6FF-CEE97B62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DA5-5C5B-457D-9985-1406A4B2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3E1-5493-4A78-9981-43283BD2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6724F-F5FB-415C-BDE6-339ADA5C7F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