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163917"/>
        <c:axId val="50677671"/>
      </c:barChart>
      <c:catAx>
        <c:axId val="511639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77671"/>
        <c:crosses val="autoZero"/>
        <c:auto val="1"/>
        <c:lblAlgn val="ctr"/>
        <c:lblOffset val="100"/>
        <c:noMultiLvlLbl val="0"/>
      </c:catAx>
      <c:valAx>
        <c:axId val="506776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639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EECA-A482-4183-B2FA-2AEEC528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74E5-E6EC-42EC-B603-97ABF6CF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E116-F0A4-4435-B747-F61A42B29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120F-92FD-44A0-AABF-24EE8C83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6896-B32A-4407-A0A1-583839CF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3F96-660D-454B-9EFE-BD07B89C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95D7-12D4-4344-A352-7FA0C6D5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12D8-A310-46A0-B628-48858CFE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115B-E044-4A52-B4F3-B88C42D3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7465-2E5C-4E6C-8EC7-63A5571E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98DB-74C4-4843-8B2E-34B4E3C1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622A-F08C-451E-8A34-A69CD55D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FD7CE-54D3-4393-90BB-87593B188B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