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2072696"/>
        <c:axId val="70653755"/>
      </c:barChart>
      <c:catAx>
        <c:axId val="8207269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653755"/>
        <c:crosses val="autoZero"/>
        <c:auto val="1"/>
        <c:lblAlgn val="ctr"/>
        <c:lblOffset val="100"/>
        <c:noMultiLvlLbl val="0"/>
      </c:catAx>
      <c:valAx>
        <c:axId val="7065375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07269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B3496-412F-40E1-876F-8003E7E05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3A7EB-3438-4531-BA17-5773390EF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5B1E4-519B-4E20-B998-496386A14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9641C-19F4-453F-A186-295A6F8FD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4D022-E4AD-4124-AC3E-13A48DF82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E633B-C9C7-4023-9073-407E652B1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58108-D898-4A88-BABB-7FD1F3944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793A3-CBDC-444E-8CA0-22248E5E9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69E5D-D259-4DA4-852C-0CAE501EB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7F7CA-91B7-434E-B15E-5618F56DD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5AA9B-3EDD-4C4A-802F-66FC36E56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B8651-DBDF-4071-BD12-5AC8ED91A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C2849B-2B89-47F4-A9AD-F83116D0298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