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92653"/>
        <c:axId val="5806126"/>
      </c:barChart>
      <c:catAx>
        <c:axId val="62592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6126"/>
        <c:crosses val="autoZero"/>
        <c:auto val="1"/>
        <c:lblAlgn val="ctr"/>
        <c:lblOffset val="100"/>
        <c:noMultiLvlLbl val="0"/>
      </c:catAx>
      <c:valAx>
        <c:axId val="5806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92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981-E155-4220-9A76-4B6F876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3BD-CD0C-475E-B48F-BDA35E6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AE1-F46B-47BA-AD60-A72C852B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FD4-FBBB-4526-8E9C-4C9ECA1A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4AC-1A75-4FBF-8126-78E3E656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93C-EF22-43E4-8680-58B15C6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426-E0D0-4C45-9770-0B882B5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27D-6A9E-429F-9B8B-281D303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0F4-0768-44F7-BD55-565470A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297-3DA3-4F0F-84BD-F1AAA84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51F-4C14-4C36-AE2E-E26E936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495-AA51-4071-8346-08EDCE3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DE4AE-D8E5-4376-AE56-92313785C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