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063871"/>
        <c:axId val="70620593"/>
      </c:barChart>
      <c:catAx>
        <c:axId val="290638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620593"/>
        <c:crosses val="autoZero"/>
        <c:auto val="1"/>
        <c:lblAlgn val="ctr"/>
        <c:lblOffset val="100"/>
        <c:noMultiLvlLbl val="0"/>
      </c:catAx>
      <c:valAx>
        <c:axId val="706205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638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4929-75B3-460B-81DD-7C7F689FF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4AFC-7AC3-4E17-A101-75EC8186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D567-9FFB-4E51-B951-4B20FEBEE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3B92-D71B-4F20-A6FF-D4CADF00E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668B-8CFF-479A-8C69-A3A580AF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0B96-0FCE-4B06-968E-2A32D6AA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DA04-1F56-4B99-A83C-506D6B6C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355F-CE64-4909-AA5A-98B1B706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6B9A-7783-4183-A5FF-8E62119A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907C-CE65-4EA7-A305-2CB7039A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C93E-9EF2-4E06-B6B0-035F3D13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0268-A517-47DD-A523-72A2438F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6AAC6-B712-42C6-A5AB-F2BBE056E2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