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24983"/>
        <c:axId val="99392791"/>
      </c:barChart>
      <c:catAx>
        <c:axId val="36224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92791"/>
        <c:crosses val="autoZero"/>
        <c:auto val="1"/>
        <c:lblAlgn val="ctr"/>
        <c:lblOffset val="100"/>
        <c:noMultiLvlLbl val="0"/>
      </c:catAx>
      <c:valAx>
        <c:axId val="99392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24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F12-29F3-4194-B4CA-8B2F24CA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A9D-8D3E-4E7E-9CC5-8C1ABDE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AA2-5BC0-4C25-927A-454641E3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EC9-A31B-4032-B3DA-53B19738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39A-0248-4C9C-B4F5-1C37BBD4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56A-2E74-493A-BAD0-01673C3D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742-692C-497B-BF18-DDE9763D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C09-75CF-4A1E-8D48-385C8DDB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852-2755-437C-B058-4223DFC0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9C1-E8E7-4DFD-ADBE-8D9F8DD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477-1B6A-4B3E-9591-23CD62CB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2A9-EB8F-4830-975D-053A963E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6E59B-0A69-4143-839F-15983C1234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