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20074"/>
        <c:axId val="26049089"/>
      </c:barChart>
      <c:catAx>
        <c:axId val="89620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49089"/>
        <c:crosses val="autoZero"/>
        <c:auto val="1"/>
        <c:lblAlgn val="ctr"/>
        <c:lblOffset val="100"/>
        <c:noMultiLvlLbl val="0"/>
      </c:catAx>
      <c:valAx>
        <c:axId val="26049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20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ACA-521A-43BD-896C-F82CCC6C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CF3-F109-43E1-B8A7-6F3A4284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56E-1004-42CB-89F6-EE56D638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B94-337A-44FE-BD76-932F5527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656-1E2D-41DA-B288-7E7AFAB2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51F-184D-4111-84AC-11C8400C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F02-CD21-4ABF-8833-BC0CB5D0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8B5-4691-49E7-B9AC-C61A26EB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D6E-7291-4E5F-8FD2-9369F1D0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64C-71C4-453C-B15D-1F12C39F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3DD-8A08-49C5-AA49-0AAD839C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FC1-B26F-4141-9024-8B49C15C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7AB68-48B0-4430-9D50-2B45D8853F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