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35885"/>
        <c:axId val="95313424"/>
      </c:barChart>
      <c:catAx>
        <c:axId val="53235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13424"/>
        <c:crosses val="autoZero"/>
        <c:auto val="1"/>
        <c:lblAlgn val="ctr"/>
        <c:lblOffset val="100"/>
        <c:noMultiLvlLbl val="0"/>
      </c:catAx>
      <c:valAx>
        <c:axId val="95313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35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466-946E-44DD-9522-131F048D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B62-F492-4547-B4A8-62BD37D7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895-78D4-4DC8-B293-1D1AF0C3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0F8-AE02-4462-A6A0-2452BEE5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763-ABCA-428E-AB29-E119E3B1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DB5-079D-491B-A03A-F8C2B199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5E9-1DE3-409E-A837-A6B4AFCB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123-3E53-4155-AF6E-77C7339A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54D-90F7-4211-92C9-B547DFA4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783-9BEE-4EEB-B92B-C27CCF5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F90-3744-49CD-84D1-1EFD304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5E0-C12A-41F7-AE29-39095324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4C83B-4E59-4F81-AA2F-520D559C07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