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68960"/>
        <c:axId val="72654603"/>
      </c:barChart>
      <c:catAx>
        <c:axId val="60468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54603"/>
        <c:crosses val="autoZero"/>
        <c:auto val="1"/>
        <c:lblAlgn val="ctr"/>
        <c:lblOffset val="100"/>
        <c:noMultiLvlLbl val="0"/>
      </c:catAx>
      <c:valAx>
        <c:axId val="72654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68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934-31CA-49AF-99B1-74AFFD80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126-6622-410F-8320-81125868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72D-0035-4508-94F5-93C7BADF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C80-D6F8-4338-B444-BB1BE56D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D54-33FB-482A-A73E-78DB187F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673-26D5-4F13-A5F0-A066BBB8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4D2-E59B-421E-9756-E643D488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438-596A-4E36-AAC0-313580FB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7B6-B10C-4BA3-B491-86E745F0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697-E9B1-4A80-A109-CCE2C5B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77C-F144-45D5-889C-6FAC0747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C0F-4EC3-4F23-9510-8C2BA339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0F6D5-C40F-478C-BCF2-03E3C4BC77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