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207"/>
        <c:axId val="84520567"/>
      </c:barChart>
      <c:catAx>
        <c:axId val="8065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20567"/>
        <c:crosses val="autoZero"/>
        <c:auto val="1"/>
        <c:lblAlgn val="ctr"/>
        <c:lblOffset val="100"/>
        <c:noMultiLvlLbl val="0"/>
      </c:catAx>
      <c:valAx>
        <c:axId val="84520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CD6-0BBE-4717-8A0A-D8839961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E70-A67E-4B95-A135-EA74A228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8C1-7449-4223-85C1-89273D1C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505-2B6A-4648-BA1A-C08A3B0E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C1C-1A5C-4005-AD6D-484AE3EC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0DB-787A-46FD-AF9C-C9A5301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C08-63FF-4DB1-A734-544C2CED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C4F-7874-4413-AB9F-20F07FBD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BAC-52BB-4F0F-AC33-E729BDCF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6DC-BC4C-49BD-BD2D-ED09379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1C5-BCE9-420B-AEB7-4383D18B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777-2A62-435A-807E-8769F5C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FB4C7-D0F0-4A3F-987C-4AA25052A9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