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990849"/>
        <c:axId val="16161853"/>
      </c:barChart>
      <c:catAx>
        <c:axId val="94990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61853"/>
        <c:crosses val="autoZero"/>
        <c:auto val="1"/>
        <c:lblAlgn val="ctr"/>
        <c:lblOffset val="100"/>
        <c:noMultiLvlLbl val="0"/>
      </c:catAx>
      <c:valAx>
        <c:axId val="16161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90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F1D-61F0-49B7-8DA2-65497C45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11B-C023-4BC6-846D-CFAA46D9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73C-8CD2-45DD-B3C6-2848D930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6C7-D1B5-4C5D-B6FD-C2B0943D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A74-B905-44F1-B089-F2BDB5F4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09C-E4DA-4818-8953-3E3D48DB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CA46-B43B-483B-A559-AE8A20E7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1C3-EE8B-4F1E-BDF0-DF1AD591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4C2-6B72-404B-B556-7EB8B694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1FD-7DE4-4B80-9DBB-CE53C13A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A1F-33F6-4714-9F2A-73253769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2C69-8B04-47E8-B903-6046D457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EB4D0-F135-41D6-8093-3A82C3B400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