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868677"/>
        <c:axId val="15383613"/>
      </c:barChart>
      <c:catAx>
        <c:axId val="798686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83613"/>
        <c:crosses val="autoZero"/>
        <c:auto val="1"/>
        <c:lblAlgn val="ctr"/>
        <c:lblOffset val="100"/>
        <c:noMultiLvlLbl val="0"/>
      </c:catAx>
      <c:valAx>
        <c:axId val="153836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686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A5BD-E376-468A-BA90-D69F7338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2568-EA04-40F1-94EF-1EF6FFD1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0C3C-E9C9-4130-B379-587A4604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672C-F9D2-46DA-9D61-A95B9A1A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177A-5AE1-4E7B-8498-389F5218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D14F-BB60-40A0-9BC7-A13910DE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62E1-8AC7-497B-A0F4-C26F8042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3AC-D934-4B74-B6A7-36D21F6F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6E58-E4EA-432C-AD11-3E47A67E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CD63-10D1-4D21-AA5E-BE750955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11D4-68A4-4538-AAB2-49D1EF5C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0231-9580-48D0-96C1-33536501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848B1-4F02-4041-A26B-C0F2CA9CC6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