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32708"/>
        <c:axId val="89543342"/>
      </c:barChart>
      <c:catAx>
        <c:axId val="51332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3342"/>
        <c:crosses val="autoZero"/>
        <c:auto val="1"/>
        <c:lblAlgn val="ctr"/>
        <c:lblOffset val="100"/>
        <c:noMultiLvlLbl val="0"/>
      </c:catAx>
      <c:valAx>
        <c:axId val="89543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2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A44-CC72-4526-9D27-70F21ABF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EC9-A6D7-402B-BB7C-A6A6C5A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690-181B-4D8E-8496-F1B891B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DB7-F6F7-46E0-B082-3418F72F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A1B-F77E-4587-8CD5-50C46EC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D0D-7BCD-4058-99F1-FA7DD01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4B5-A193-418E-9F48-B1E3E18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E4C-8BA2-4991-8F2D-5B7C3CF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599-8B87-4725-95D2-3C26899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411-37B7-4400-8EE3-9B0FB79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5B5-EDC3-443C-8768-1D8E5E2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F0A-7B62-40CC-854C-E49FDCE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8A526-CC99-407D-9ADA-9CA906053F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