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03084"/>
        <c:axId val="67144418"/>
      </c:barChart>
      <c:catAx>
        <c:axId val="47403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44418"/>
        <c:crosses val="autoZero"/>
        <c:auto val="1"/>
        <c:lblAlgn val="ctr"/>
        <c:lblOffset val="100"/>
        <c:noMultiLvlLbl val="0"/>
      </c:catAx>
      <c:valAx>
        <c:axId val="67144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03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AE9-509D-4C3E-9F20-19F27121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86C-A8B2-4473-B047-3B46BA78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815-C42E-442E-85D7-0FC3F7A2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4DF-846C-420C-BC4C-EF445119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A43-8945-4D4F-ACF8-16BF5AA9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337-FA45-442B-8D54-CB04CC6E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2C2-A0D2-44A8-91CA-C08FB26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88D-7CD4-4F94-8047-5532A63B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7F4-E314-4F68-A5FE-9EA6FDAC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7D1-DFF1-49CD-A65B-DA885E96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010-A191-4932-B02E-CBEBC22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3AB-5FBE-49DA-ADC2-FB6DD61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EE00-0941-45F1-A940-581827E86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