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91848"/>
        <c:axId val="64974099"/>
      </c:barChart>
      <c:catAx>
        <c:axId val="123918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74099"/>
        <c:crosses val="autoZero"/>
        <c:auto val="1"/>
        <c:lblAlgn val="ctr"/>
        <c:lblOffset val="100"/>
        <c:noMultiLvlLbl val="0"/>
      </c:catAx>
      <c:valAx>
        <c:axId val="649740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918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797A-2F77-4B44-B0A5-47FDFC65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D997-2DD5-49F2-B84C-CEBF415F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0A21-D153-4C0D-8002-088591FE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90FA-BFCA-4C17-A945-E6CBF824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3E1-325D-4165-B16D-098162B3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CC12-3878-4913-B776-ED90994F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372D-60A4-4B51-BE75-ED40B6F5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A50E-7271-4EAC-B166-486470C5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B32-824D-45B8-9324-F9E7EFB4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FF7D-AA40-4DE7-8252-15DC46FC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DC20-5082-499E-BC9E-B29C212F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5E7-119D-4D61-883F-9382596B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B5DAA-B1E9-4AC2-9141-B82E334B9C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