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532710"/>
        <c:axId val="85553473"/>
      </c:barChart>
      <c:catAx>
        <c:axId val="195327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553473"/>
        <c:crosses val="autoZero"/>
        <c:auto val="1"/>
        <c:lblAlgn val="ctr"/>
        <c:lblOffset val="100"/>
        <c:noMultiLvlLbl val="0"/>
      </c:catAx>
      <c:valAx>
        <c:axId val="855534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5327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84B1-10C0-452C-9D7F-B30D4B093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80E8-6CF1-470C-A620-A57188516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408E-2409-4F5E-BD70-2AC1C8B78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BD57-B18A-4330-A013-D487CD5E8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EB14-30A8-4AC5-91F8-15CA66FFD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1441-3815-47C7-89B1-BF3053D61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E639-F8E2-4655-A65A-119AFA83F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BB08-8112-4D33-A104-036399E8E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2837-F9C2-457D-9ECD-96AF4F316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D8A8-4CA7-41E1-AA65-5E855900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12FF-23A9-49DC-ABA8-3E0470D3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D7A6-717D-4875-952A-07564FA2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E7AD18-BA8C-4CEB-81D2-9AEF1FA8CC2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