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67922"/>
        <c:axId val="95626015"/>
      </c:barChart>
      <c:catAx>
        <c:axId val="84367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6015"/>
        <c:crosses val="autoZero"/>
        <c:auto val="1"/>
        <c:lblAlgn val="ctr"/>
        <c:lblOffset val="100"/>
        <c:noMultiLvlLbl val="0"/>
      </c:catAx>
      <c:valAx>
        <c:axId val="95626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67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B0D-97B9-4373-9D27-5D2F1889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9F6-E737-4AC9-9BF8-8395BC5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FBB-8DF3-42BE-B755-CFF60C74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389-527D-4FE1-8804-2A5083AB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424-09CF-46A0-AEBF-ECB62EC6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8BB-886B-4D82-99F3-8F060549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D73-27DC-4C47-940B-FABF786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421-6820-4C86-9720-17E4968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42A-A16A-4268-B1F1-71DCC063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72B-6EE2-4974-80CA-63665F5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011-4454-47D1-A627-2CC74A56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93F-9AAB-44BE-B878-C6D7C65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390EE-1870-4B02-8A64-EBCECC00F5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