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25433"/>
        <c:axId val="90794060"/>
      </c:barChart>
      <c:catAx>
        <c:axId val="51525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94060"/>
        <c:crosses val="autoZero"/>
        <c:auto val="1"/>
        <c:lblAlgn val="ctr"/>
        <c:lblOffset val="100"/>
        <c:noMultiLvlLbl val="0"/>
      </c:catAx>
      <c:valAx>
        <c:axId val="90794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5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539-3E2C-4349-AC43-B8C7865C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E19-AE46-4188-9BBA-2F7FA305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191-91A8-48C5-9A09-599EA213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909-7E14-4507-B482-FC515864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9A5-5A31-4939-B5DF-668897B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E71-B05D-4CD5-ABCE-2CB53D67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1D6-C3F4-41F6-AE73-7B757B1E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327-9113-4897-A647-E5BD1ACB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5D8-E85E-454E-944B-D684194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F14-0CF2-4678-A7F8-4CEB680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3C3-EC77-4F88-A2CA-662B8DE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A19-1296-451F-9826-813EF97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AABDD-0948-4462-A205-92B365EC9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