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11421"/>
        <c:axId val="52126583"/>
      </c:barChart>
      <c:catAx>
        <c:axId val="69511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26583"/>
        <c:crosses val="autoZero"/>
        <c:auto val="1"/>
        <c:lblAlgn val="ctr"/>
        <c:lblOffset val="100"/>
        <c:noMultiLvlLbl val="0"/>
      </c:catAx>
      <c:valAx>
        <c:axId val="521265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11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B70-A6F9-40B4-9B0B-6B97B028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BC3-0969-43CD-8111-082FDBBA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27F-8EB9-448C-A2F5-E1497461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066-3A3B-4731-9483-6E427654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720-DB7C-4419-B93F-6121E1A5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F2D8-62FB-4984-8DF7-54BCCB83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363-0F22-474B-ADE9-8D83FA9E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2BA1-98CF-4E31-912C-B3327FA5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6C4-308A-4541-9886-62659A4A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66D-FA0F-4F57-B4FD-37FA2550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939B-FF60-4C7F-8771-FD69F68A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F25-52F0-4AA1-A188-3F22B66C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33D51-212B-485A-B200-A878D71A28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