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29507"/>
        <c:axId val="50009511"/>
      </c:barChart>
      <c:catAx>
        <c:axId val="62729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09511"/>
        <c:crosses val="autoZero"/>
        <c:auto val="1"/>
        <c:lblAlgn val="ctr"/>
        <c:lblOffset val="100"/>
        <c:noMultiLvlLbl val="0"/>
      </c:catAx>
      <c:valAx>
        <c:axId val="50009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9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7E3-C476-47B9-91B3-8C683920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890-2855-4E16-8665-055F0274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8E2-DC51-456B-AB8D-B298294D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4AD-DF66-4D2C-9527-4741A5AC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4AA-E533-4833-A4F3-581CACA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CA6-D430-4B52-B53B-96A94B9D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4D5-82BA-48D1-8452-A424B624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2A1-DAE1-47F8-AECD-AADEA223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069-E28B-4E93-8054-9C596B6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737-347D-41B4-A77B-F4A126DD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C8F-A075-4B69-A68B-EF7A72BF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ABA-90A1-47DB-8285-17E96BC4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93E81-4084-4C7A-B9BF-5896A62AEE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