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13056"/>
        <c:axId val="34720614"/>
      </c:barChart>
      <c:catAx>
        <c:axId val="5451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0614"/>
        <c:crosses val="autoZero"/>
        <c:auto val="1"/>
        <c:lblAlgn val="ctr"/>
        <c:lblOffset val="100"/>
        <c:noMultiLvlLbl val="0"/>
      </c:catAx>
      <c:valAx>
        <c:axId val="34720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1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B29-0E97-4EFB-B12C-17FF58B3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2FF-8593-4C2A-B2D6-073BFA2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DD6-DB43-4296-AAF8-B7CC73A0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1D2-5B67-4B3D-9263-B53447D0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41F-C9D9-4117-B256-2791BD15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28C-B8AE-4DBC-A712-EFE40CD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F9A-CF9C-4FE7-8A42-4C11839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CF8-0038-40ED-85F1-D9533E99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023-D3A8-4C0C-8E45-55A306AA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259-740B-4EC2-8405-44DAF239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FA9-9CD2-4BC6-8B3F-340F38C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181-8173-45FC-B751-83BAFAD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4C859-ED67-4A73-B82B-7E64ABE81D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