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33200"/>
        <c:axId val="1493276"/>
      </c:barChart>
      <c:catAx>
        <c:axId val="86033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3276"/>
        <c:crosses val="autoZero"/>
        <c:auto val="1"/>
        <c:lblAlgn val="ctr"/>
        <c:lblOffset val="100"/>
        <c:noMultiLvlLbl val="0"/>
      </c:catAx>
      <c:valAx>
        <c:axId val="1493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33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FBE-8924-47A0-975D-B75EDC09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EF2-8455-4480-9E71-C027C9F3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180-9288-49B9-8F88-CF4B38C2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B6D-4701-44C7-A3EF-41609D89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242-9FC6-4AEB-84BC-3DAF7641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516-BF07-4249-84A9-8296752B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B4D-7163-44AC-AD96-48CA43CB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452-0271-40F6-9260-11D6C50B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C4B-78D8-4D89-BC56-9FF2FFE8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64B-B77E-43BF-A6C2-0F33435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94B-7AF5-45B5-A359-311882B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D37-7804-4BA9-99CE-BFDF405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B9CA4-75AC-4E0A-A1BA-6DC190F6F8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