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13121"/>
        <c:axId val="23099113"/>
      </c:barChart>
      <c:catAx>
        <c:axId val="21013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9113"/>
        <c:crosses val="autoZero"/>
        <c:auto val="1"/>
        <c:lblAlgn val="ctr"/>
        <c:lblOffset val="100"/>
        <c:noMultiLvlLbl val="0"/>
      </c:catAx>
      <c:valAx>
        <c:axId val="23099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13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960-2D1D-4460-A626-45712F05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E67-35B6-4082-8810-3281E865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688-2BCE-4C2F-8563-E07C8482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25D-7A9E-47F2-AFA9-E20AB9C9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1B8-BC08-48A6-B7B3-4A14198F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9BC-D9B8-48FF-9D91-13A5D633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228-7D1C-4718-98D8-09903F0C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F42-2A1C-4225-8B44-7A65099A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4C6-3E6C-4557-A433-0ADC79A7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4C4-2034-4A5D-8885-252B8859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345-BAC3-4C51-8EB9-F03DB9DC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E85-3B58-4DFB-A763-55D1107F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7806F-06A8-43FB-98FF-7A9F4FE537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