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104348"/>
        <c:axId val="1023698"/>
      </c:barChart>
      <c:catAx>
        <c:axId val="811043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3698"/>
        <c:crosses val="autoZero"/>
        <c:auto val="1"/>
        <c:lblAlgn val="ctr"/>
        <c:lblOffset val="100"/>
        <c:noMultiLvlLbl val="0"/>
      </c:catAx>
      <c:valAx>
        <c:axId val="10236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1043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B3CE-6D6A-4302-B611-E39DA6DB8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8F53-4070-42AA-8077-0C8841DB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82BE-E17A-4546-83A9-D988FF7CB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47DB-2678-43C9-BF1D-16E82168F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B3F0-C4CB-4EDC-8C55-CCDF70E7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502B-CBD7-4292-B621-192B634E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1915-BF0D-4A2A-8B1D-D305546A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7B69-9DE5-4324-91F0-EA266D4C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1EB5-2DEC-4A02-8D65-486CA2AF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FA44-BDC4-4AF6-8F2F-6D568EFB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EFAC-FCF6-40B6-883C-D5F2EA24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D426-F6CF-4930-B437-D02F6A0F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19053-B859-40EA-96E0-DA0D0FAA67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