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959651"/>
        <c:axId val="3487470"/>
      </c:barChart>
      <c:catAx>
        <c:axId val="249596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7470"/>
        <c:crosses val="autoZero"/>
        <c:auto val="1"/>
        <c:lblAlgn val="ctr"/>
        <c:lblOffset val="100"/>
        <c:noMultiLvlLbl val="0"/>
      </c:catAx>
      <c:valAx>
        <c:axId val="34874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596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6B08-579D-4F75-9E95-CD42032E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E518-B4D0-43CB-B5E0-C701F4A1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1533-6AC2-42B3-B7C7-C4F78783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4ABB-8A94-4EC7-84EF-5A52881C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A685-8601-42D2-84E0-5146D013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41CD-250F-4E2E-8447-A0604789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5309-BEE8-4BBA-8567-E0FA398F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F9E8-7A97-45A3-B926-57F4B755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EB61-40FA-4E13-88FB-074ABB04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283C-A09E-45C3-9643-3EBB7614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CD26-7BCD-4E37-B526-BA8E9F58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DC06-AA11-4327-BBBD-79B27EFF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8C336-7DD4-4AB9-BE24-CF3D7ACF29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