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84650"/>
        <c:axId val="5592161"/>
      </c:barChart>
      <c:catAx>
        <c:axId val="77284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2161"/>
        <c:crosses val="autoZero"/>
        <c:auto val="1"/>
        <c:lblAlgn val="ctr"/>
        <c:lblOffset val="100"/>
        <c:noMultiLvlLbl val="0"/>
      </c:catAx>
      <c:valAx>
        <c:axId val="5592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84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FFD-066B-4E57-8BA5-DFDDB1E9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17D-C539-4E8B-8A75-5E3C655D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471-2A32-4F8D-B77F-884CA19D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93B-E23E-46D4-930A-C01A4B0D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6EA-C36D-47AE-B750-564D7CC7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A12-8264-4471-A1C8-0C76CEF2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AF7-3A47-438D-8EE9-A6F476E0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631-AC2D-493C-8480-27EC54EB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D90-129E-454D-97E8-A199FE46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564-1310-4101-972D-2C34393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A26-C56F-49BB-AE7F-7ECC5EB6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38B-B381-4F39-807F-8AB956EB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E631E-DF18-47CE-A14A-19832B8D54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