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15529"/>
        <c:axId val="60390272"/>
      </c:barChart>
      <c:catAx>
        <c:axId val="78315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90272"/>
        <c:crosses val="autoZero"/>
        <c:auto val="1"/>
        <c:lblAlgn val="ctr"/>
        <c:lblOffset val="100"/>
        <c:noMultiLvlLbl val="0"/>
      </c:catAx>
      <c:valAx>
        <c:axId val="60390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15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8EA2-4BB3-49C3-A562-CA0BB4D1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6EB-822D-40A7-BC09-20A3E60B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28C-1B0F-4F2A-A0FD-24266B61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F21-9901-44AE-BCD8-6F1C1269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ECE-8286-448F-8ECA-92B11D40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E69-6125-42C8-9230-AA4DA4E3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A6E-7CBB-4ADE-B78B-A0265BCB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701-B66F-4568-B922-40ED069D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CE5-F9FB-4F1D-AFCE-D91F46DC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645-AFBD-4B30-9274-D8F9F381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668-5C01-42C8-B71B-F140F728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624-DE24-4DB8-B95D-DFA72CCE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121DC-4376-409B-B600-50B52D79AA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