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29093"/>
        <c:axId val="84131667"/>
      </c:barChart>
      <c:catAx>
        <c:axId val="23629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31667"/>
        <c:crosses val="autoZero"/>
        <c:auto val="1"/>
        <c:lblAlgn val="ctr"/>
        <c:lblOffset val="100"/>
        <c:noMultiLvlLbl val="0"/>
      </c:catAx>
      <c:valAx>
        <c:axId val="84131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29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46C-A682-4E55-9DA8-CC3F860B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B94-2F7C-4B61-8938-4D6642CD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6D0-8F87-4044-835D-5BECF675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ABB-B508-4737-BBBA-4C5286B8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8B5-D0AE-4657-8B45-8F3E564C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DF0-D4CA-477A-A5EE-FB1E973D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573-9F0C-41D6-8853-D56D1F1F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8BA-E836-443C-A0F9-C1A0C068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88F-18A0-4C5A-A422-4DC809DA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920-4135-49A1-A12C-1741E194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B3B-019B-48BE-8ECD-22E30C98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FD9-41D5-4DFD-83DD-61D6400E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454E4-2BB9-4F64-9AEC-EF2DF75C43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